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E8AEB-9650-4217-A886-6808216116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A7ED3-F3FD-45DF-AFE9-4838715DC9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C822C-7200-4CCC-8FC5-F8044B01D1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C8479-5F82-48FC-A1CE-C0B107A28C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670D9-9DE1-4F0D-AD96-950D2EE99A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61E93-EF9D-4B83-B3B8-DABBF6869A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81FB7-29F1-4090-AD81-F4FCF9C034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251E1-1B36-4417-B1EF-5BC14858B8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7C46E-14AF-4006-BF77-1A895500D2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4BA99-74CB-4EAD-8878-FB4A1BEE30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73F41-9B86-4541-84AE-79A423D1E9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89748-3B89-4178-9407-AEFDC0B71F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B7D20-11ED-488E-AFA1-BE0F8EBE7A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68F14-448E-4C32-B3FB-EB9C61C4EC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3D153-C1BF-4946-B07A-7C7B538783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ACC65-9CCA-450E-B4DE-44CF2EA52F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01635-88AC-4637-8DDD-9A9B1F758B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B3040-D8D6-4F78-A54C-BE2065BDAF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60556-1EC9-456E-84DE-67C7E034B2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00639-1693-4CE6-A25E-6F3076E71D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79C1B-0C2C-45D6-92DC-116CA5BB8D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9B3EC-301A-4B73-998E-4937535183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55C76-640F-4C3A-9DA6-02DEA71D63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21906-034A-4119-B2E9-A781702F2C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A70F-EB3A-46D6-B6CD-DE93C5AE2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1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611D-7D7C-4EAC-8D02-6FEEAA0D3B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previousslide"/>
          </p:cNvPr>
          <p:cNvSpPr/>
          <p:nvPr/>
        </p:nvSpPr>
        <p:spPr>
          <a:xfrm rot="5400000">
            <a:off x="6781320" y="7596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 rot="16200000">
            <a:off x="6781680" y="45684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40080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4 by Deitel &amp; Associates, Inc. and Pearson Education Inc. All Rights Reserved</a:t>
            </a:r>
            <a:r>
              <a:rPr b="0" lang="en-US" sz="1200" spc="-1" strike="noStrike">
                <a:solidFill>
                  <a:srgbClr val="000000"/>
                </a:solidFill>
                <a:latin typeface="AvantGar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kcija 3 – Izv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đenje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1243080"/>
            <a:ext cx="7696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Preg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Osnovni pojmov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Definisanje izvedene kl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3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Načini izvođe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Izvedene klase i konverz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Konstruktori i destruk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olimorfiz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7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Virtuelne (polimorfne meto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8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Dinamičko veziv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9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pstraktne kl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0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Virtuelni destruk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Višestruko nasljeđiv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Operator </a:t>
            </a:r>
            <a:r>
              <a:rPr b="1" i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typ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BBB2D-3F04-497B-B0F4-59BD1179511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Definisanje izvedene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rcle* cPtr = new Circl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Ptr-&gt;setX(1.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Ptr-&gt;setY(2.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Ptr-&gt;setR(2.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Ptr-&gt;Pr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lete cPt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3C268-7689-433D-9F03-1FC7B7E255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Definisanje izvedene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193080" cy="535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194FF-03F2-44A1-BECC-B18AE14DD3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Definisanje izvedene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bjekti izvedene klase sadrž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Članove osnovne kl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Članove navedene u deklaraciji izvedene kl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nasljeđuje 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Funkcija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operator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onstruktori i destruktor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ijateljstv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klaracija člana u izvedenoj klasi skriva deklaraciju člana sa istim imenom u osnovnoj klas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Članu u osnovnoj klasi pristupa se putem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ime_klase::ime_cl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5D2CE-7974-4C01-B04C-144C26072E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Definisanje izvedene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lass Circle : public Poi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loat r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ircle(float x = 0.0, float y = 0.0, float r = 0.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his-&gt;x = x; //nalijedjeno iz osnovne kla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his-&gt;y = y; //nalijedjeno iz osnovne kla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his-&gt;r = r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loat getR(){return r;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void setR(float r){this-&gt;r = r;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ff3300"/>
                </a:solidFill>
                <a:latin typeface="Courier New"/>
              </a:rPr>
              <a:t>void Print(){ Point::Print(); cout &lt;&lt; "R=" &lt;&lt; r &lt;&lt;endl;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ircle* cPtr = new Circle(1.0,2.0,3.0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Ptr-&gt;Print(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lete cPtr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12000" y="5281560"/>
            <a:ext cx="3132000" cy="157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0CE4D-C967-45CC-A646-9CD852CF18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Definisanje izvedene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vatni članovi vidjivi su isključivo u klasi kojoj pripadaj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ijesu vidjivi izvedenim klasa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štićeni članovi označavaju se sa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prot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Vidjivi su u metodama izvedene kla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ijesu vidijivi u drugim klasama, niti im se može pristupiti preko objek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utem objekta izvedene klase javnim članovima osnovne klase se pristupa kao i javnim članovima izvedene k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eko objekta nije moguće pristupiti privatnim i zaštićenim članovima, kako izvedene tako i osnovne kla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13223-5097-4B6A-9D2A-D7B874334E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Definisanje izvedene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964720" cy="514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697E4-D0DA-4187-B5F5-41EF609A83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Način izvođen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Određuje ključna riječ ispred imena kl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stoje tri načina izvođenj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Javno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ass Circle : public Point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Zaštićeno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ass Circle :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protect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rivatno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ass Circle :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zvođenje je podrazumijevano privat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ko je izvođenje javno, onda u izvedenoj kl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Javni članovi postaju javni, zaštićeni postaju zaštićeni i privatni postaju privat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ko je izvođenje zaštićeno, onda u izvedenoj klas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Javni postaju zaštićeni, zaštićeni postaju zaštićeni i privatni postaju privat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ko je izvođenje privatno, onda u izvedenoj klas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Javni postaju privatni, zaštićeni postaju privatni i privatni ostaju privat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9A85B-E7AE-4E05-8C5A-B9D09DC9DE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Način izvođen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avo pristupa može samo biti “snižen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e postoji način da neki privatni član osnovne klase u izvedenoj klasi postane zaštićen ili jav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Čuva se princip enkapsulaci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ez obzira na način izvođenja svi članovi osnovne klase se nasljeđuj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ačin izvođenja određuje nasljeđivanje prava pristup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re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je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en kontrole pristupa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 č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ovima osnovne klase preko objekta izvedene kl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Ne utiče na pravo pristupa iz metoda izvedene kl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AACAA-B456-478E-B30F-B6B1604B1F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Način izvođen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ass Circle :</a:t>
            </a:r>
            <a:r>
              <a:rPr b="0" lang="en-US" sz="1500" spc="-1" strike="noStrike">
                <a:solidFill>
                  <a:srgbClr val="ff3300"/>
                </a:solidFill>
                <a:latin typeface="Times New Roman"/>
              </a:rPr>
              <a:t>privat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Poi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ivate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loat r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ircle(float x = 0.0, float y = 0.0, float r = 0.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-&gt;x = x; </a:t>
            </a:r>
            <a:r>
              <a:rPr b="0" lang="en-US" sz="1500" spc="-1" strike="noStrike">
                <a:solidFill>
                  <a:srgbClr val="ff3300"/>
                </a:solidFill>
                <a:latin typeface="Times New Roman"/>
              </a:rPr>
              <a:t>//</a:t>
            </a:r>
            <a:r>
              <a:rPr b="0" lang="sr-Latn-CS" sz="1500" spc="-1" strike="noStrike">
                <a:solidFill>
                  <a:srgbClr val="ff3300"/>
                </a:solidFill>
                <a:latin typeface="Times New Roman"/>
              </a:rPr>
              <a:t>OK, zasticeni clanovi su i dalje vidjivi iz metoda izvedene kla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-&gt;y = y; //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-&gt;r = r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loat getR(){return r;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void setR(float r){this-&gt;r = r;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void Print(){ Point::Print(); cout &lt;&lt; "R=" &lt;&lt; r &lt;&lt;endl;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nt main(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ircle* cPtr = new Circle(1.0,2.0,3.0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ff3300"/>
                </a:solidFill>
                <a:latin typeface="Times New Roman"/>
              </a:rPr>
              <a:t>cPtr-&gt;setX(1.0);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500" spc="-1" strike="noStrike">
                <a:solidFill>
                  <a:srgbClr val="ff3300"/>
                </a:solidFill>
                <a:latin typeface="Times New Roman"/>
              </a:rPr>
              <a:t>//Greska, setX vise nije vidljivo jer je izvođenje privatn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Ptr-&gt;Print(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elete cPtr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C7839-CB06-4887-9125-ABBA018D0F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Način izvođen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523880" y="1397160"/>
          <a:ext cx="6096240" cy="507996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1015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zvođen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lan osnovne kl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5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vn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štiće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t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v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vn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štiće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t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štiće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štiće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štiće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t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t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t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t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t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DFE9A-B66D-4828-B0B7-DABEDEBD51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38080" y="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iljevi lek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91440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ovoj lekcij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znavanje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osnovim pojmovima vezanim izvođe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sanje izvedenih kl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čini izvođe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struktori i destruktori u izvedenim klas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morfizam i virtuelne met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namičko vezivanj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treba apstraktnih kl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sanje virtulenih destruk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šestruko nasljeđivanj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treba operatora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2D04F-88D4-402E-B889-43A2614D8F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Način izvođen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zmeđu privatnog i javnog izvođenj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ostoji  suštinska razl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no izvo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je realizuje koncept nas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an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acij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"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vrsta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kind-o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vedena klasa ima sve što i osnovna, na isti na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dostupno korisnik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no izvo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je realizuje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koncept sadrž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acij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"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deo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part-o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anti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 sli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a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slučajem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da B sadr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 tipa 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Kod privatnog izvođenja dijete ne može da zameni roditelj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994AC-1630-4740-9D7B-CD4BA55AF3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Izvedene klase i konverz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kazivač na izvedenu klasu može se konvertovati u pokazivač na dostupnu osnovnu kla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lasa je dostupna ako su na nekom mjestu u programu dostupni njeni javni člavov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ajčešće, u pitanju su klase koje su izvedene jav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ozvoljena je konverzija iz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B*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u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A*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ada je klasa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javno izvedena iz klase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Svaki objekat klase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je ujedno i objekat klase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vo ne važi za privatno izvedene kl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bratno ne važ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bjektu osnovne klase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može se dodijeliti objekat izvedene klase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B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ada je klasa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javno izvedena iz klase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D518C-11C9-400F-9A76-45714A0860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Izvedene klase i konverz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AlphaPoint : 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oint {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BetaPoint :  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privat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oint {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printPoint(Point p){p.Print();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* p1 = new AlphaPoint();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r-Latn-CS" sz="1800" spc="-1" strike="noStrike">
                <a:solidFill>
                  <a:srgbClr val="ff3300"/>
                </a:solidFill>
                <a:latin typeface="Courier New"/>
              </a:rPr>
              <a:t>//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* p2 = new BetaPoint();</a:t>
            </a:r>
            <a:r>
              <a:rPr b="0" lang="sr-Latn-CS" sz="1800" spc="-1" strike="noStrike">
                <a:solidFill>
                  <a:srgbClr val="ff3300"/>
                </a:solidFill>
                <a:latin typeface="Courier New"/>
              </a:rPr>
              <a:t>//Gres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phaPoint 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aPoint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Point(a);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r-Latn-CS" sz="1800" spc="-1" strike="noStrike">
                <a:solidFill>
                  <a:srgbClr val="ff3300"/>
                </a:solidFill>
                <a:latin typeface="Courier New"/>
              </a:rPr>
              <a:t>//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Point(b);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r-Latn-CS" sz="1800" spc="-1" strike="noStrike">
                <a:solidFill>
                  <a:srgbClr val="ff3300"/>
                </a:solidFill>
                <a:latin typeface="Courier New"/>
              </a:rPr>
              <a:t>//Gres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lete p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lete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66D2E-B1FB-4D2B-B235-DD3DBDBF68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Konstruktori i destruktor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ilikom kreiranja objekta izvedene klase poziva se konstruktor te klase, ali i konstruktor osnovne kl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likom uni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vanja objekta i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dene klase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poziva se destruktor te klase, ali i destruktor osnovne kl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akon odabira odgovarajućeg konstruktora izvedene klase redosljed izvršavanja je sljedeć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oziv konstruktora osvnovne kl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nicijalizacija članova izvedene kl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zvršavanje tijela konstruk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edosljed poziva destruktora je obrat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Prenos parametara konstruktoru osnovne k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sti inicijalizator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konstruktora izvedene kl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gu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je navesti i inicijalizator osnovne kl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Inicijalizator osnovne klase se sastoji od imena osnovn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argumenata poziva konstruktora osnovne kl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7378F-FC52-4F51-8ECF-CF4A095802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Konstruktori i destruktor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tect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(float x = 0.0, float y = 0.0) : x(x), y(y) {cout &lt;&lt; "Konstr : Point" &lt;&lt; endl;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~Point(){cout &lt;&lt; "Destr : Point" &lt;&lt; endl;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(Point&amp; p) : x(p.x), y(p.y) {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Print() {cout &lt;&lt; "X=" &lt;&lt; x &lt;&lt; ",Y=" &lt;&lt; y  &lt;&lt; endl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getX(){return x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getY(){return y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setX(float x){this-&gt;x = x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setY(float y){this-&gt;y = y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87BD5-BBA2-4A14-9B7E-AA04405551D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Konstruktori i destruktor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lass Circle : public Poi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loat r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ircle(float x = 0.0, float y = 0.0, float r = 0.0) </a:t>
            </a:r>
            <a:r>
              <a:rPr b="0" lang="en-US" sz="1700" spc="-1" strike="noStrike">
                <a:solidFill>
                  <a:srgbClr val="ff3300"/>
                </a:solidFill>
                <a:latin typeface="Courier New"/>
              </a:rPr>
              <a:t>: Point(x,y), r(r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{cout &lt;&lt; "Konstr : Circle" &lt;&lt; endl;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~Circle(){cout &lt;&lt; "Destr : Circle" &lt;&lt; endl;}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loat getR(){return r;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void setR(float r){this-&gt;r = r;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void Print(){ Point::Print(); cout &lt;&lt; "R=" &lt;&lt; r &lt;&lt;endl;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ircle* c = new Circle(1.0, 2.0, 3.0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-&gt;Print(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elete c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372360" y="4538520"/>
            <a:ext cx="2771640" cy="23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EC4C6-5F32-4F0C-9243-781F2AB429A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6 Polimorfizam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ka je projektovana osnovna klasa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" sz="2400" spc="-1" strike="noStrike">
                <a:solidFill>
                  <a:srgbClr val="000000"/>
                </a:solidFill>
                <a:latin typeface="Courier New"/>
              </a:rPr>
              <a:t>ehic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a ima metodu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 osnovne klase izvodimo klase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r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uck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je treba da imaju svoju specifičnu varijantu metode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up objekata tipa vozila (nezavisno od vrste) možemo predstaviti nizom pokazivača tipa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" sz="2200" spc="-1" strike="noStrike">
                <a:solidFill>
                  <a:srgbClr val="000000"/>
                </a:solidFill>
                <a:latin typeface="Courier New"/>
              </a:rPr>
              <a:t>ehicle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ehicle* vArr[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rr[0] = new Car(100, 5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rr[1] = new Truck(200, 200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odjel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rr[0] = new Car(100, 5);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e dozvoljena zato što je objekat klase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Ca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ujedno i objekat klase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" sz="2400" spc="-1" strike="noStrike">
                <a:solidFill>
                  <a:srgbClr val="000000"/>
                </a:solidFill>
                <a:latin typeface="Courier New"/>
              </a:rPr>
              <a:t>ehic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1BE52-9CA4-4808-B100-6DF3E477B26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6 Polimorfizam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ss Vehi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tecte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 regNu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hicle(int regNum) : regNum(regNum){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id Print() {cout &lt;&lt; "Vehicle : regNum=" &lt;&lt; regNum &lt;&lt; endl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ss Car : public Vehi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 seatNu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r(int regNum, int seatNum) : Vehicle(regNum), seatNum(seatNum){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id Print() {cout &lt;&lt; "Car : regNum=" &lt;&lt; regNum &lt;&lt; ",seatNum=" &lt;&lt; seatNum &lt;&lt; endl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ss Truck : public Vehi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 ca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ck(int regNum, int cap) : Vehicle(regNum), cap(cap){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id Print() {cout &lt;&lt; "Truck : regNum=" &lt;&lt; regNum &lt;&lt; ",cap=" &lt;&lt; cap &lt;&lt; endl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7B332-3CEF-4A14-A811-44CDA08A0DD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6 Polimorfizam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rebno je odštampati informacije o svim vozili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sr-Latn-CS" sz="1600" spc="-1" strike="noStrike">
                <a:solidFill>
                  <a:srgbClr val="000000"/>
                </a:solidFill>
                <a:latin typeface="Courier New"/>
              </a:rPr>
              <a:t>for(int i = 0; i &lt; 2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sr-Latn-CS" sz="1600" spc="-1" strike="noStrike">
                <a:solidFill>
                  <a:srgbClr val="000000"/>
                </a:solidFill>
                <a:latin typeface="Courier New"/>
              </a:rPr>
              <a:t>{vArr[i]-&gt;Print(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oba slučaj pozvana 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etoda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z osnovne k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ziv “obične” metode se razrešava prema tipu pokazivač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Tip pokazivača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vArr[i]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Vehicle*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pa se poziva i odgovarajuća metoda iz te klas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tatičko vezivanje u vrijeme kompajlira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ncip polimorfiz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zivanje metode na osnovu tipa objekta, a ne tipa pokazivač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724360" y="1628640"/>
            <a:ext cx="3419640" cy="162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E9452-0B43-4454-82C6-439A350161C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6 Polimorfizam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ojstvo 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aki objekat izvedene klase izvršav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etod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ako kako je to definisano u njegovoj izvedenoj klasi, iako mu se pristupa kao objektu osnovne k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aki objekat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oznat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joj izvedenoj klasi pripada, iako mu se obr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o kao objektu osnovne k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 objekta za koji se zove metoda određuje koja oblik  metode će biti pozv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aj postupak je potpuno dinamičk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a objekta na koji ukazuje pokazivač određuje se u toku izvršavanja 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 polimorfizma realizovan je tzv.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tuelnim funkci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8C9F4-EA87-4778-A611-8CCE8F80952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snovni pojmovi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realnom sistemu, nije rijedak slučaj da se u skupu entiteta uoči jedan ili više podskupova entiteta koji imaju dodatne specifične osob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 skupu studenata, koji dijele zajedničke osobine kao što su broj indeksa, datum upisa itd., mogu se uočit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tudenti magistarskih studija koji imaju dodatnu osobinu kao što je naziv magistarskog 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tudenti doktorskih studija koji imaju dodatnu osobinu kao što je broj objavljenih naučnih rado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Klasa studenata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agistarskih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studija je specijalni sluča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kind-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klase studen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85A86-D71A-4E69-93D1-F12BA6B34D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7 Virtuelne (polimorfne) metod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irtuelne metode su metode koje se u izvedenim klasama mogu predefinsa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iše se nova implementacija metode koja je specifična za tu izvedenu klas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a koja sadrži barem jednu polimorfnu metodu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ziva se 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imorfna kla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tueln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eto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u osnovnoj klasi deklariš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ođenje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ju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 re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virtu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 po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ku deklar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likom deklarisanja virtuelnih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eto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izvedenim klasam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 mora se stavljati re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vir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646F0-3646-4CDC-87EA-F46EA000797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7 Virtuelne (polimorfne) metod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ivom preko pokaziv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a osnovnu klasu izvršava se on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eto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a pripada klasi pokazanog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tuelna metoda ne mora biti predefinisana u svakoj izvedenoj klas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o nije redefinisana u nekoj izvedenoj klasi onda važi značenje iz osnovne kla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klaracija virtuelne funkcije u izvedenoj klas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 da se potpuno sla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sa deklaracijom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arajuće metod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osnovnoj klas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puno slaganje zna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a se podudaraju broj i tipovi argumenata, kao i tip rezult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ECA66-6283-4B38-ADE3-D3EEFE49CD8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7 Virtuelne (polimorfne) metod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ss Vehi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tecte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 regNu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hicle(int regNum) : regNum(regNum){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virtual void Print() {cout &lt;&lt; "Vehicle : regNum=" &lt;&lt; regNum &lt;&lt; endl;}</a:t>
            </a:r>
            <a:r>
              <a:rPr b="0" lang="sr-Latn-CS" sz="1400" spc="-1" strike="noStrike">
                <a:solidFill>
                  <a:srgbClr val="ff3300"/>
                </a:solidFill>
                <a:latin typeface="Times New Roman"/>
              </a:rPr>
              <a:t> //virtelna meto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ss Car : public Vehi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 seatNu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r(int regNum, int seatNum) : Vehicle(regNum), seatNum(seatNum){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id Print() {cout &lt;&lt; "Car : regNum=" &lt;&lt; regNum &lt;&lt; ",seatNum=" &lt;&lt; seatNum &lt;&lt; endl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ss Truck : public Vehi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 ca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ck(int regNum, int cap) : Vehicle(regNum), cap(cap){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id Print() {cout &lt;&lt; "Truck : regNum=" &lt;&lt; regNum &lt;&lt; ",cap=" &lt;&lt; cap &lt;&lt; endl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843F8-191B-4968-8052-920976DA8BF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7 Virtuelne (polimorfne) metod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ehicle* vArr[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rr[0] = new Car(100, 5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rr[1] = new Truck(200, 200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vNum =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int i = 0; i &lt; vNum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rr[i]-&gt;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003640" y="5245200"/>
            <a:ext cx="4140360" cy="16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BEDAB-E136-4B0E-878A-DCFA18C60A8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Dinamičko vezivan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Dinamičko vezivanj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gl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bin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hanizam koji obezb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je da se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metoda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a se poziva odre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je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tipu objekt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po tipu pokaziv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ili reference na taj objek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lu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anje koj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se virtueln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etoda (iz koje klase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va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namički, tj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avlja se u toku izvršavanja progra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na je r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a u odnosu na mehanizam preklapanja imena funkcija koji je stati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j. u vrijeme kompajlira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aj mehanizima aktivira se isključivo kada je potreb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CE94A-7D0A-48A1-A688-A19D4C89CA8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Dinamičko vezivan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d jednostrukog nasljeđivanja za svaku polimorfnu klasu kreira se tabela virtuelnih funkcija (TV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abela virtuelnih funkcija klase sadrži pokazivače na verzije virtuelnih funkcija za tu kla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i objekat neke klase sadrži pokazivač na tabelu virtuelnih funkcija te kl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Taj zadatak obavljaju konstruktor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evodilac generiše kod za indirektan poziv virtuelne funkcij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eko pokazivača na TV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vo se iz objekta pročita adresa TV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Zatim se iz tabele pročita adresa funkci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8E688-2237-417E-9BBB-A2AB2EF4E39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Dinamičko vezivan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lass Vehic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rotecte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nt regNum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Vehicle(int regNum) : regNum(regNum){}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ff3300"/>
                </a:solidFill>
                <a:latin typeface="Courier New"/>
              </a:rPr>
              <a:t>virtual void Print() {cout &lt;&lt; "Vehicle : regNum=" &lt;&lt; regNum &lt;&lt; endl;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ff3300"/>
                </a:solidFill>
                <a:latin typeface="Courier New"/>
              </a:rPr>
              <a:t>virtual void setReg(int regNum) {this-&gt;regNum = regNum;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Vehicle* vArr[3]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vArr[0] = new Vehicle(10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vArr[1] = new Car(100, 5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vArr[2] = new Truck(200, 2000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nt vNum = 3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or(int i = 0; i &lt; vNum; i++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{        vArr[i]-&gt;Print();    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435640" y="5400720"/>
            <a:ext cx="3708360" cy="14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99EE4-1FEF-4285-9D2E-4713CF49905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Dinamičko vezivan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748720" cy="535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EDF4D-3441-498F-8C36-1A65170BD5E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9 Apstraktne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lasa koja nema inst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luži da se iz nje izvode druge kl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ealizuje koncept generalizaci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Zajedničke osobine nekoliko klasa se grupišu u jednu osnovnu (apstraktnu) kla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uprotan proces specijalizacij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Od postojeće klase koja ima svoje objekte uočava se podskup sa nekim dodatnim specifičnim osobin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zbjegava se ponavljanje k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rimjer: Publikacij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Knjige, naučni časopisi itd. imaju zajedničke osobine kao što je ISBN it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Zajednične osobine se grupišu u apstraktnu klasu 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Publikac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Nema smisla da postoje objekti klase 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Publikacija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jer ne predstavljaju neki realni entit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331E5-6272-467C-B55E-C5A3C12A476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9 Apstraktne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Mogu postojati pokazivači i reference na apstraktne kl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ni će ukazivati na konkretne objekte klasa izvedenih iz te apstraktne kl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pstraktna klasa može ima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odatke član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evirtuelne met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bične” virtuelne met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Apstraktna klasa može imati konstruktor iako se ne mogu konstruisati objekti apstraktne k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on će se pozivati kao konstruktor osnovne klase pri konstrukciji objekata konkretnih klasa koje se izvode iz apstraktne kl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Klasa koja se izvodi iz apstraktne je jedna konkretizacija te k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9C9E4-55A6-4DC6-90FA-89A006D2281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snovni pojmov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OO pristupu modelovanje navedene pojave omogućeno je putem mehanizma koji se zove nasljeđi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asljeđi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an od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jučnih, ako ne i najvažniji koncept OO programiranj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lizuje se konceptom izvedenih kla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asljeđivanje je relacija između kla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lasa B nasljeđuje klasu 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bjekat klase B je jedna vrsta objekta klase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bjekti klase B imaju osobine objekata klase A, ali i neke svoje specifič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CBB9D-2D04-4B46-BA7C-211BABFFF9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9 Apstraktne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lasa je apstraktna ako ima makar jednu apstraktnu (čisto virtuelnu) metod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pstraktna meto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ije definisana za osnovnu klas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 deklaraciji u osnovnoj klasi umjesto tijela funcije navodi se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=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asljeđuje se kao apstraktna metoda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U izvedenoj klasi je takođe apstraktna meto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Ako nije definisana u izvedenoj klasi, onda je i izvedena klasa takođe apstraktna kl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A2D46-523B-4D13-A0F3-B97DF93B239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9 Apstraktne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Employ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tect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i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mployee(int id) : id(id){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getId(){return id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virtual float getEarnings()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CommissionWorker : public Employ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sal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commisio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item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missionWorker(int id, float salary, float commision, float items) : Employee(id), salary(salary), commision(commision), items(items){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float getEarnings() {return salary + commision * items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225CF-745F-44DF-9C4A-7910F08BC3E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9 Apstraktne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HourlyWorker : public 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loat hour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loat wag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ourlyWorker(int id, float hours, float wage) : Employee(id), hours(hours), wage(wage){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float getEarnings() {return hours * wage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mployee* vArr[2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r[0] = new CommissionWorker(1, 100.0, 0.30, 2000.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r[1] = new HourlyWorker(1, 40.0, 10.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vNum = 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(int i = 0; i &lt; vNum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vArr[i]-&gt;getEarnings()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FFE2C-A831-420F-8B6C-D46F2B08CF5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0 Virtuelni destruktor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nstruktor ne može da bude virtuelna funkcij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ziva se prije samog kreiranja objek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struktor može da bude virtuelna funk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željno je da destruktor osnovne klase uvijek bude virtuel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U suprotnom, prilikom poziva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nad objektom izvedene klase biće pozvan destruktor osnovne kl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ada se poziv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ko pokaziv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a osnovnu kla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utar destruktora izvedene klase ne treba pozivati destruktor osnovne klase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mplicitno se poziv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A30B7-B338-41E4-A9A2-9399EBA0310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0 Virtuelni destruktor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se(){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~Base() {cout &lt;&lt; "Destr : Base " &lt;&lt; endl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Derived : public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rived(){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~Derived() {cout &lt;&lt; "Destr : Derived " &lt;&lt; endl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se* ptr = new Derived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lete pt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227640" y="5410080"/>
            <a:ext cx="2916360" cy="14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BA1A9-1975-4470-ACD5-33ED99B5436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0 Virtuelni destruktor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se(){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sr-Latn-CS" sz="1600" spc="-1" strike="noStrike">
                <a:solidFill>
                  <a:srgbClr val="ff3300"/>
                </a:solidFill>
                <a:latin typeface="Courier New"/>
              </a:rPr>
              <a:t>virtual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~Base() {cout &lt;&lt; "Destr : Base " &lt;&lt; endl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Derived : public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rived(){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~Derived() {cout &lt;&lt; "Destr : Derived " &lt;&lt; endl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se* ptr = new Derive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300720" y="5603760"/>
            <a:ext cx="2843280" cy="125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4D288-20C9-4D96-A30B-94913BAD2BC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1 Višestruko nasljeđivan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lasa može biti izvedena iz više različitih kla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estruko nasle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anj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ngl.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inheritanc</a:t>
            </a:r>
            <a:r>
              <a:rPr b="0" i="1" lang="sl-SI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U zaglavlju se navode imena klasa odvojenih zarez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a od osnovnih klasa može biti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li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aže ista pravila o nasljeđenim članovi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aže ista pravila i za konstruktore i destrukto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toje i nedostac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oblem dijamant struktu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CAFB8-AC69-4CEE-B722-23E4232C6FE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1 Višestruko nasljeđivan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mj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Base { public:int i;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Derived1 : public Base{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Derived2 : public Base{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Derived3 : public Derived1, public Derive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Derived3(){i = 0;}};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a od klasa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Derived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Derived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adrži objekat klase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Višestruki podobjek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lasa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Derived3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će imati dva skupa članova klase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B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 primjeru problem nastaje jer je referenca na član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dvosmislen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Da li je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iz 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Derived1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ili 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Derived2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Može se izbjeći upotrebom operatora :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pr.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X::i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B3BDB-60DB-4216-81C4-28F53328AF1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1 Višestruko nasljeđivan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ase() {cout &lt;&lt; "Konstr : Base" &lt;&lt; endl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Derived1 : public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Derived1() {cout &lt;&lt; "Konstr : Derived1" &lt;&lt; endl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Derived2 : public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rived2() {cout &lt;&lt; "Konstr : Derived2" &lt;&lt; endl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Derived3 : public Derived1, public Derived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rived3(){cout &lt;&lt; "Konstr : Derived3" &lt;&lt; endl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rived3* ptr = new Derived3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lete pt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651640" y="5027760"/>
            <a:ext cx="3492360" cy="183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9EF05-FE51-4573-BF38-DB9605049A9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1 Višestruko nasljeđivan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irtuelne osnovne kl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Izbjegavanje višestrukih podobjek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mj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Base { public:int i;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Derived1 : 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virtua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ase{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Derived2 : 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virtua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ase{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Derived3 : public Derived1, public Derive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Derived3(){i = 0;}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ada klasa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Derived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nasljeđuje samo jedan podobjekat klase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ema dvosmislenosti kod pristupa članu 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bje klase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Derived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Derived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moraju se virtuelno izves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8C304-B0EB-414E-8B21-DF3670253CC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snovni pojmov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a B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je izvedena iz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 j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snovna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sl-SI" sz="22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 B izvedena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sl-SI" sz="2200" spc="-1" strike="noStrike">
                <a:solidFill>
                  <a:srgbClr val="000000"/>
                </a:solidFill>
                <a:latin typeface="Times New Roman"/>
              </a:rPr>
              <a:t>derived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dklasa (</a:t>
            </a:r>
            <a:r>
              <a:rPr b="0" i="1" lang="sl-SI" sz="22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a B podklasa (</a:t>
            </a:r>
            <a:r>
              <a:rPr b="0" i="1" lang="sl-SI" sz="22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itelj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a B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oma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a B nasle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je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karakteristik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e 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atribu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met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tiže se visok stepen ponovne upotrebe programskog k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snovnu klasu ne treba mijenja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ije je potrebno ponovo kompajlir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FB56E-2E55-49BE-80CF-33748513AD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1 Višestruko nasljeđivan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ase() {cout &lt;&lt; "Konstr : Base" &lt;&lt; endl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Derived1 : virtual public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Derived1() {cout &lt;&lt; "Konstr : Derived1" &lt;&lt; endl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Derived2 : virtual public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 Derived2() {cout &lt;&lt; "Konstr : Derived2" &lt;&lt; endl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Derived3 : public Derived1, public Derived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: Derived3(){cout &lt;&lt; "Konstr : Derived3" &lt;&lt; endl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rived3* ptr = new Derived3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lete pt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156360" y="4994280"/>
            <a:ext cx="2987640" cy="186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B30E3-4BAD-4166-ADB0-FD1B4C0B0C3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2 Operator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typeid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utem ovog operatora omogućeno da se dinamički (u toku izvršavanja) odredi tip izraz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ziv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ourier New"/>
              </a:rPr>
              <a:t>typeid(izra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Izraz može biti bilo kojeg tipa ugrađeni ili korisnički definis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ourier New"/>
              </a:rPr>
              <a:t>typeid(naziv_ti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Može biti proizvoljan t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Kada je operatoru predat izraz nema opasnosti od bočnih efek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Vrijednost se ne izračun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Vrlo korisno za polimorfne kl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Rezultat je dinamički tip operanda, a ne onaj tip koji je upotrijebljen pri deklaraciji pokazivač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00055-6165-4962-B757-374B9BEEFFB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2 Operator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typeid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zultat je </a:t>
            </a:r>
            <a:r>
              <a:rPr b="0" lang="sl-SI" sz="2800" spc="-1" strike="noStrike">
                <a:solidFill>
                  <a:srgbClr val="000000"/>
                </a:solidFill>
                <a:latin typeface="Courier New"/>
              </a:rPr>
              <a:t>const type_info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ype_inf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e tip iz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lt;typeinf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oji sadr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ži podatke o ti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odražani su operatori == i !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etoda name() vraća neko logično ime tip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Razliku je između prevodilac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va klasa nema javne konstrukto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e mogu se kreirati objekti ovog tip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19C15-BFCB-44E3-B317-183C5290039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2 Operator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typeid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ehicle* vArr[2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r[0] = new Car(100, 5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r[1] = new Truck(200, 200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vNum = 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(int i = 0; i &lt; vNum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typeid(*(vArr[i])) == typeid(Car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Objekat klase Car"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typeid(*(vArr[i])) == typeid(Truck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Objekat klase Truck"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Name()=" &lt;&lt; typeid(*(vArr[i])).name()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119640" y="1557360"/>
            <a:ext cx="3024360" cy="206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9DDA2-2E64-46C9-A1D2-CB28B4651EF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135320" cy="666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F4A25-4490-47B9-A9DA-C536DF71B9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Definisanje izvedene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vedena klasa ne definiše na sljeći nač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lije imena klase navodi se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čin izvođenj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e osnovne kl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gu biti navedena imena više kl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ena su odvojena zarez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o postoji samo jedna osnovna klas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nda je u pitanj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struko, ako postoji vi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višestruko izvo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vo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je mo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biti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više korak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vedena klasa mo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biti osnovna klasa za slede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izvo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je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Takvo izvođenje se ne naziva višestruk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CB0BF-6C39-42EE-B291-297A10B8E7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Definisanje izvedene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tected: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//vidljivo samo u izvedenim klas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(float x = 0.0, float y = 0.0) : x(x), y(y) {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(Point&amp; p) : x(p.x), y(p.y) {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Print() {cout &lt;&lt; "X=" &lt;&lt; x &lt;&lt; ",Y=" &lt;&lt; y  &lt;&lt; endl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getX(){return x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getY(){return y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setX(float x){this-&gt;x = x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setY(float y){this-&gt;y = y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1001E-7962-4170-B848-CBD518A642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Definisanje izvedene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ass Circle : public Po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loat 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ircle(float x = 0.0, float y = 0.0, float r = 0.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-&gt;x = x; //na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jedjeno iz osnovne kl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-&gt;y = y; //na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jedjeno iz osnovne kl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-&gt;r = 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loat getR(){return r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oid setR(float r){this-&gt;r = r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A2382-2FBA-4147-AA81-8E158809F1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17:02:59Z</dcterms:created>
  <dc:creator>jason</dc:creator>
  <dc:description/>
  <dc:language>en-US</dc:language>
  <cp:lastModifiedBy>Aleksandar</cp:lastModifiedBy>
  <dcterms:modified xsi:type="dcterms:W3CDTF">2013-08-17T13:02:21Z</dcterms:modified>
  <cp:revision>829</cp:revision>
  <dc:subject/>
  <dc:title>Chapter 1 – Introduction to Computers and C++ Programming</dc:title>
</cp:coreProperties>
</file>